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E308-8080-4487-AED4-BD7DC1275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670F-E3D4-4148-8464-8EF7AC0F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44CFBC-2DAC-48FB-A0C8-A241AFF8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D2941F-4A3E-4A3A-9E0B-3857536E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E25FDC-BC08-4002-9A83-1715318B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292891-D2DD-43BB-8BBA-4BA48BB8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A586A2-35FA-466B-BBD2-D80C99E6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F65DC4-5BEE-4F0E-9B3B-20532B1E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692BFC-F558-404F-8B84-1684EA37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0525F-3D19-4CF4-8280-39E1769E7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25A08-8C8E-4887-B4B7-CC530B43B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E27920-3965-4639-9C6D-DC7787586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6E6A-B150-4DA7-95AC-8D39C10EA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AAA250-07E1-4480-8528-A4C1A825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9F9FEC-12CE-407B-884D-C0C9579E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2A9C8C-B9D0-4FC9-B45F-DDA2BC5E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F865B3-2BE0-4644-B951-D4C2D989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E51A97-3782-486C-B7AE-E8DDCF80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856DC6-B2C3-48FF-B042-1ED8D0A7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3AF949-21E0-4FEC-BDBF-F1957FA2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B784D2-2125-4F6B-A17E-5D236945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282AAB-4941-411D-BBA5-2074B838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F3CEAD-7AF0-426C-A4E6-FFBDBF634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F345-ED7C-4FE5-95AE-628AE2C6E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5BE413-06E7-43B4-A6AA-E79DB7814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FA85B-8D03-4018-8574-42D18D300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484315-77B7-445A-9F58-287FB421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DD8F90-F39E-4496-94DE-A0AF3DEF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C1FCE-3E56-4BB4-8F48-D0D3E566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6D9986-A465-49E0-9C44-4796CF6E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4AA7F-C86C-4FB6-8AA9-8ADB7D6B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6EEDF-FB91-420C-A0DF-EA2E5835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FB85F-427B-47CB-B10E-F1D56CB5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53497-823D-43A7-B3B0-72E59910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4421-E3AC-4559-93C0-948AD4DC7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1F08BB-F2C5-41B1-B7C8-9959C50E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E72C3-F59C-4A58-8EDE-5565B48C1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AA8EA-056E-4DE5-B387-7025F0688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534FCA-255B-48CD-964C-1369C7AD5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86D2E9-DD84-40A3-9B7C-795E96A4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CD6A3C-F8A4-41C3-9A1D-2745D302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7C8339-8937-4A00-BA97-0798CDF1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5897F8-6D70-420D-857D-348189A1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0D9B71-C19F-4B04-BFA3-0373D47E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DA6CB3-F170-4D65-A8EB-F69D22D8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29AB9-3AA9-4D06-8E5A-1B3C04FB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FB5597-A79C-43A7-839A-40B9A263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3DA318-869D-4733-B44A-277984B9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E7A298-308B-431D-A047-DE1DF82C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CD59F6-5793-4077-90DA-C9F0F919C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3817B2-30E3-4528-8916-A9A46701A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DF0A30-906F-402C-8F01-5170113CC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D20B18-C11F-40B8-8002-FB640F7D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AB3344-4522-46EE-87C1-E983D54A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91666D-F522-4C65-BF66-86735F80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DA0C2A-1B7C-412C-9970-A11D97BA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B8A8-E237-4D0B-9BE3-7F7BEE98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CFFEC6-9012-4207-9439-F5838CB1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503A74-1B2D-4D27-BBFB-F582BCE1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AF1110-F1D4-458E-8506-FFC35274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98682B-86EB-4E15-B1FD-C82D82C4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09ACD9-5D42-4F06-B59B-42E6105F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D36671-D6CC-4A12-913B-B234C4340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DFDCED-AD6D-4A21-A042-76F8CE057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CFF6D6-7005-44E1-B38D-AC44389E3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715D92-29BE-4A5D-B616-ADEB0989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71D746-017B-48F9-8931-3AEAF810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1CD2-5DDD-4FEF-9363-C48B1829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0DC867-C520-48C5-88A1-AEAE6656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3A6AF7-BD6B-4B6A-8765-CAF5EF67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8575CB-2A19-45B3-98FA-BF28F5D4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AFB016-ABD2-4A70-B631-500C0C24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9581F9-07FA-4EF0-A0B5-CDB5E6F2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9EBCFD-7D90-408C-812C-49E698B7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F28CAF-40CD-4041-86D4-92C9CCB5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555DFC-140A-4DA7-80DA-2F0368A3C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1161D9-74DE-4B5E-8961-F4024BD58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CC51FE-5DFA-4912-9C60-C5FE679FB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6D47-035A-4E23-9E3B-50C3C437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A7FE8D-141E-4C03-B136-E8F33ACE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E088C6-AE23-4C9F-A42B-66A58026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389824-0BE6-46FD-928B-7C59F6E9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EF3103-86F8-471F-8CCE-9A9033A9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22015B-E920-4A70-82FF-A4074DD9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1462BF-1C13-4886-9B14-4C13507F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76719C-9A0E-48AD-AC20-02284CA2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9E3FCC-3D46-4186-8362-DC7E50E6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046418-E912-4510-85C6-31C8174B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E6AD3C-645A-4246-8B8F-B49A3DDAC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1083-7135-4A3B-A315-6E0BB781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5C4193-9F22-4C04-A31E-5FEBDC256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751F25-33CD-45F2-A84D-715AE3098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7AF4DD-0885-4FC6-AD12-F51473F6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4048EF-9326-4CBB-AE76-DF502D48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4BBFA6-AF58-4AFF-8E19-DB4772D6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1E624F-58AE-473A-A02C-9886392C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0E119B-B2F8-4BE0-B400-7E4691E0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CEFFCF-244F-4948-920C-17C4862C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90C977-4CC0-4668-AE8D-52F0098E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8006B1-11D2-4FE6-90A9-B0EB43F5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61E2-4067-4A27-BF08-715F4D71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A1EFB8-11D2-4322-A782-F6DDCDB7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4D0D40-2200-4931-9D40-FC60041F1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ED3DD0-7970-4681-AD7A-137BF1145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94B5C2-0633-4C82-8160-7D904A57E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64BD33-3D2F-4B82-ADD0-F0F5939E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AB2F26-5CDE-405C-BBB7-ECA53555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7BDC3E-64D2-4C9F-99AF-4A11739D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C166E0-F904-4CF1-AE36-9DE64D32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17C97B-1CDF-4C98-9B71-C901DD6D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3FCB62-FF1D-4983-82D2-5F9B82F3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6E62-6FB8-41C0-9AD6-08FE86A5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F976-33CF-4BE2-B548-63C675F3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00F28C-75DD-4D69-A929-6CE8BBB8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CAD82E-EC78-4F02-B197-BE018D19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7FE967-9418-46FC-A1EC-08EDBCBC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F61125-250C-41B8-9131-02DCD7C4E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125632-C24B-4032-95EA-C40D3B9D8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662CD5-8DB7-45A9-9D28-AC6A22611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365F21-DF85-43EA-94D2-47A97ABA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3A3FD8-119E-4AD8-8E0D-386A78A4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72A7DB-3D15-4591-BC87-2959C791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2D3FAC-D3FB-44FA-BC9B-2E289FAB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5E0B-DA17-4C74-9D4F-B1ECEBB3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D114B0-4218-48B5-BE96-284F51FB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C93DDF-7F12-4665-9899-B2A06AE5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6AB648-89C5-4AEB-9628-CB07D538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C39CA5-0A9F-474A-BAC5-7163B604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4091A2-2E56-4664-970D-66470AFE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A0C93B-F2A6-468A-A587-214415164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6E2960-18BB-4443-9016-4D82EFCF2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1E1CD9-8314-4EAE-A860-ED4B0D6EE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8070D4-B3DE-42C6-AB22-87F41E28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9FE182-B9B4-4B6B-8D1E-50A3FFE40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912CC-D692-4C47-B679-B66FEAED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0BA2DD-A37A-4E8E-8F40-9E9BA3DF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1C8781-243B-484E-B5A9-24562CAC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DE343F-C84E-4B34-A11F-CD6E628E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3D4B6F-69FE-45FF-BAD7-6B20179C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B04454-1B10-4C70-B979-5A716B51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DB8579-0FE7-4350-AF63-184F8B1C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EF9ACD-AF28-4705-986A-5929C09A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D5F462-C7A3-4415-803E-E14C33063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199084-033D-4B6C-B247-CBCF23F4D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215884-8524-403A-98F1-C0B7F93FB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60455-8ED5-4A36-B3D1-ADA953613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0B1B8C-3FC2-444A-82E3-AF42344D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E3D722-44DF-4F5E-A1F5-48DB0A02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3D0BE3-3341-407B-A162-3A1E4FBE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B0F4EB-DA4E-4098-A8B0-3AA627B7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0D6CB1-AD82-46DE-B42C-B4B9B28B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715BAB-5D7B-4622-8303-EFD82FDF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04AF0F-66DF-40CD-A141-E13CB863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510687-A7DA-4CA4-83E8-81DD6481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673EE0-0651-46CA-BC43-3C2EA05A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98E634-F784-4E69-8BB2-1BBD77BEC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8D6F2-C433-4E37-B0A6-6B2536EA4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E37CBF-4712-41EF-81FD-376CB9EFC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3E2741-C074-4A58-AFB4-062E6DE57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FA06B9-EE0F-4A5D-AA0B-7C513ED4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795A09-6C9D-4E1E-8DBB-BE9488CF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26FD38-E4F3-456A-98D7-EDB825EA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CFFEC7-380E-4203-B104-3B739031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EE0A2A-D874-46FA-962C-CDAF4976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1F018D-C35B-4633-A041-A5BFD558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D4756F-021A-491A-8ABC-4CB1BBC1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D69179-2173-4F22-B149-8F3A455E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F97A6-FC5E-4BAE-8448-E4EB3D3AA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589383-F78A-46C7-8D81-80E4D7EA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411551-DF4B-411D-A2D6-686EE65C7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2769D3-2F69-41A7-81FC-34367A8EE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C2A48D-2A90-4B84-B518-553AEDCF9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C7FDCB-B9F3-4E9C-A03F-E7B64023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D85591-DE6E-4CDF-AB37-97367243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02E721-EC80-4FA1-A862-711104EE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CF6C25-05BB-4B0D-89B7-5FC7603E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43DBB4-E99A-44C5-8161-9F9E43D5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188EA6-3FE0-43C1-9461-4251D1D6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F136E-1224-42B5-A462-33F89432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92F30A-90C8-4FCB-BDED-EDEB78F4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FEE0BA-A5C7-40B2-BD51-BF057624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31BD8A-8D0E-45B9-AA19-E5732FB8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46705E-C480-4E2A-BCDE-921D2F088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3EE973-4AA9-4116-BFFA-6B3588277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F028BD-AF41-42D0-9BDA-E66DCAFC0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884AC1-4563-4829-A502-24E8BAE3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45BE45-1A78-4D79-8C37-BDDA124C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F8AB4B-28FE-4915-85A9-CA13F02C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173626-5133-46A4-BB94-22C4172B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79CD9-A873-4864-BF4F-FB742570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4EF9EE-0C2E-44FA-8A7F-FC93C442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139E3F-2557-4D2F-87B4-0755F0FF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7264E7-9E1C-460F-82DE-27F9D763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9FEA6A-77FA-4E88-BE19-8926C60A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851845-7970-4834-BB01-B39D43E5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3D6FE6-284C-4B7D-8B30-E7B1365B7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8E36D3-6A1C-4CC4-BB77-8F46B8F5B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5F6F3-A339-499F-A833-6119489C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957E3-1A3B-45DD-9605-69E179AF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0FB3-5959-44A9-8E1B-0D304011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3C9BC-859F-4902-961D-6F3E2F19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EA42C-E075-4514-B1C1-1E88456A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7ECE4-921A-462B-B8A4-AE4D5D0C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B18F7-A82A-406D-B032-710259E0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860AA-EAFC-41F5-8B60-0E80F339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3C57F-437B-4C33-960E-74774C531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E090A-053A-438F-AC43-F3FB28545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15C48-6E67-473E-B0BE-A11FE6984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EBEEF-D0D9-4A65-B38A-084AC27B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CC5FA-5BFE-4780-809E-CFF742E8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2D47-819F-460E-AFB6-FABAFCF5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42E64-C19B-40D6-9913-6076A83D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C638E-5A22-4839-99C8-C1B72B68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07D06-7B95-4A28-9703-1D1611D8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38B28-2E63-4611-BAAB-31A18E94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2F6B1-B794-4D45-8875-9130B834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114B9-BA1A-4F2D-9270-89BFC843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552C0-784B-41F6-9468-79C3EE1D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9CB00-92B8-46DE-954B-FD358AE59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035B6-A60E-452E-8E6A-78BD897FF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C24A7-F6C2-4B86-B27E-54BFEF586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33EF-083D-4AAD-AD83-ECC198C1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316DE-8EE7-4E8B-B89F-D1E49AB5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4CD65-98C8-4841-B0D8-FCE7F9D8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F35C2-F94D-4A4B-A301-EF13C989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A1878-9358-4FC7-B486-1BD845E3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1F306-BD5F-4179-B5E3-997B551A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8934C-ED94-4BA7-84B2-B32477A6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6519F-B2E9-40E6-87EB-47AAB590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B0CDB-9577-473B-9AB0-175DD876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35837-3FE1-4484-85D8-D89503CB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9D460-450B-4132-B0D4-FA901A325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26F7-D732-4C39-9FEE-BA32651C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8175E-FD76-4E9F-B7DB-46B52C4A8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5720D-39E8-46B2-8DD3-3D61F9E96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1EE16-73A0-41F2-A72C-267A7C9F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05584-D8A4-4AD7-A577-50788AD4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83530-FF79-44A5-9EB4-7CD8F7BE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5552A-0FF2-4334-B93A-305A8AF5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C7785-9249-4E08-8FFF-9CDC401D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E7CD4-934F-499D-889B-CF791A45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80460-3213-4A79-8DD8-A754A417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0E371-D22B-42D2-9DDC-6CDE0CB6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5A59-D4DA-486F-8C36-4D3CA331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D5326-316B-45F8-8743-965BD574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C8B83-893B-4EEA-820E-9F1DABFC3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9EBF4-FA7A-42F0-9147-B1B724741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5DFDE-CC34-4B5D-A2BF-CD25429E1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89227-1D69-4A47-B761-08ADBAC0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C17B7-E4A1-4BDB-8928-01A5538B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3BC91-6D9A-4AFB-B384-849A0E66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CFBD2-87A9-4F94-9B0D-8F9F4AB7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97A77-EAEA-4911-AB3E-22AB3917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8D866-F213-422D-97D1-80683C43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9E5F-EEF7-463B-BE00-F144F4D3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3D693-13C8-43E0-A638-226EB82D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798D1-6106-4609-BB11-4B35B5C9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6EBB3-B4DD-4A1B-A73E-EC81B628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B6737-3A0F-432F-8594-ADFB60694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C2503-7BC1-43AA-A670-40A174A4F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C5D5C-40E3-444E-A58E-66451841B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E81DC-A4BB-4C2A-AD30-3C4CBD1D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D14D9-B6E1-40E7-BF87-266C6B00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3038D-59B2-49DC-8CA4-E89CC0BD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0E99E-A354-47F7-BE6B-D878D7B66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A48A-2B2F-4B01-807F-0C40DFDE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BF8ED-202F-47FE-B582-06E7936A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F319A-2364-4571-9D47-75C7C416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1B53C-F224-4CB7-8513-0435D9FC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ED975-F5B6-44FF-B03D-DB940B85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C6CE3-BE4E-4A19-B196-7A679479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F1FBE-1D54-4353-A404-2404C680C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5599C-09D3-4462-BDF8-85D68DBCB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7441F1-7CA9-4A1E-A45E-1D0BB006D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D09658-2B74-4FD4-A14F-1A4A8A3B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950C7C-696F-4528-9C3B-17916784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6196-FA71-44C7-9705-6CA533E1B4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7DB9-E3C5-475E-BC29-9D25772EFA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FDA3-86BD-45A4-BA68-0A84F15F64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D060-CC37-45B5-AE2A-1B0B5F9021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C2E6-3469-46D9-B7EB-9E658FCE19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BDAA-5667-4880-8E9A-35DFD0F904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F1DA3-9640-43FA-ACE9-D5B7651605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3B6A-60B8-4C8F-9FC8-87DA957A91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DC13-1FA3-4C80-A947-E8A26F4BE7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C479-AD1A-4346-B4E0-AE9C8D9CDC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D0BA-B02C-4493-9F91-C30B365975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42E2-53B7-4DAB-BB16-795C8C22BB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9784-FB03-4646-9072-99C7378F6C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CCEB-B391-4B82-AE42-CB78051663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7CED-AA71-446B-AEB8-30D47CEFE8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82B9-E095-4D3D-99D7-DF7ABAE421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DDB2-16E7-45A0-9D8C-C2154F30CE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FFF8-8079-4C23-963D-ABD708C1F5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4C01-44C7-40BA-A553-7100455E75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D893-040E-4964-A8CB-A7AF53EB4F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AD53-9B81-46D5-B262-C87F6505D6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C17C-2244-4372-9912-9531D6B924C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B0B7-0107-4344-AB06-1BBF1871CD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43F0-256A-43DF-A881-BF84402FDC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448D-0F8E-4D16-8218-DBE31DEE49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3D8E-20FE-495D-807C-1C48DE704D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39AD-C9BA-47C1-96CA-9607F8F102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ED1A-74D4-4175-BBF6-778E0162B3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CC04-48B5-4638-BD1C-EB23FE2A37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1603-A841-48E3-A786-83E9C96482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6716-02E0-40ED-9486-C7F7C97C19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5AC1-CC21-4415-BAE1-3422B29DAA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DB02-F690-482E-99CC-FCD9C2F483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F0B7-9458-43CC-B725-B064DA5D5C3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7D20-CB54-487F-9B39-FA87E3330A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A545-0F9F-4E6A-8DB0-12685A8109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8FE1-1E11-4681-9F22-3F60B9F34A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B1E2-21E0-41FA-86C4-BBE688E265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8154-9774-46C7-8C51-DF64120710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6E34-28BF-4B15-ADAE-C0D1C091D4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038C-983C-4B43-9668-28F2D1486A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6D59-3D6D-4DD1-A697-500DF18746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264960" y="3005280"/>
            <a:ext cx="8772840" cy="8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19240" y="971640"/>
            <a:ext cx="8705520" cy="55148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971640" y="2421000"/>
            <a:ext cx="259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2987640" y="1758960"/>
            <a:ext cx="1728720" cy="44784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5651640" y="2276640"/>
            <a:ext cx="3241440" cy="417672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7667640" y="1716120"/>
            <a:ext cx="1297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628560" y="1057320"/>
            <a:ext cx="7886880" cy="474336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3024360" cy="33112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3"/>
          <a:stretch/>
        </p:blipFill>
        <p:spPr>
          <a:xfrm>
            <a:off x="2987640" y="1066680"/>
            <a:ext cx="1513080" cy="4478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4"/>
          <a:stretch/>
        </p:blipFill>
        <p:spPr>
          <a:xfrm>
            <a:off x="5148360" y="1628640"/>
            <a:ext cx="3240000" cy="410400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5"/>
          <a:stretch/>
        </p:blipFill>
        <p:spPr>
          <a:xfrm>
            <a:off x="7308720" y="1036800"/>
            <a:ext cx="1513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图片 1" descr=""/>
          <p:cNvPicPr/>
          <p:nvPr/>
        </p:nvPicPr>
        <p:blipFill>
          <a:blip r:embed="rId1"/>
          <a:stretch/>
        </p:blipFill>
        <p:spPr>
          <a:xfrm>
            <a:off x="219240" y="990720"/>
            <a:ext cx="8705520" cy="487656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2"/>
          <a:stretch/>
        </p:blipFill>
        <p:spPr>
          <a:xfrm>
            <a:off x="971640" y="2333520"/>
            <a:ext cx="2952720" cy="44784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3"/>
          <a:stretch/>
        </p:blipFill>
        <p:spPr>
          <a:xfrm>
            <a:off x="971640" y="2852640"/>
            <a:ext cx="2952720" cy="4478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4"/>
          <a:stretch/>
        </p:blipFill>
        <p:spPr>
          <a:xfrm>
            <a:off x="4932360" y="2333520"/>
            <a:ext cx="2952720" cy="44784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5"/>
          <a:stretch/>
        </p:blipFill>
        <p:spPr>
          <a:xfrm>
            <a:off x="4932360" y="2852640"/>
            <a:ext cx="2952720" cy="44784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6"/>
          <a:stretch/>
        </p:blipFill>
        <p:spPr>
          <a:xfrm>
            <a:off x="971640" y="4494240"/>
            <a:ext cx="2952720" cy="4474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7"/>
          <a:stretch/>
        </p:blipFill>
        <p:spPr>
          <a:xfrm>
            <a:off x="971640" y="5013360"/>
            <a:ext cx="2952720" cy="4474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8"/>
          <a:stretch/>
        </p:blipFill>
        <p:spPr>
          <a:xfrm>
            <a:off x="4932360" y="4508640"/>
            <a:ext cx="2952720" cy="44748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9"/>
          <a:stretch/>
        </p:blipFill>
        <p:spPr>
          <a:xfrm>
            <a:off x="4932360" y="5027760"/>
            <a:ext cx="2952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1" descr=""/>
          <p:cNvPicPr/>
          <p:nvPr/>
        </p:nvPicPr>
        <p:blipFill>
          <a:blip r:embed="rId1"/>
          <a:stretch/>
        </p:blipFill>
        <p:spPr>
          <a:xfrm>
            <a:off x="209520" y="1019160"/>
            <a:ext cx="8724960" cy="48196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2"/>
          <a:stretch/>
        </p:blipFill>
        <p:spPr>
          <a:xfrm>
            <a:off x="4932360" y="3357720"/>
            <a:ext cx="1800360" cy="4474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2987640" y="4221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4"/>
          <a:stretch/>
        </p:blipFill>
        <p:spPr>
          <a:xfrm>
            <a:off x="6804000" y="4164120"/>
            <a:ext cx="1800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图片 1" descr=""/>
          <p:cNvPicPr/>
          <p:nvPr/>
        </p:nvPicPr>
        <p:blipFill>
          <a:blip r:embed="rId1"/>
          <a:stretch/>
        </p:blipFill>
        <p:spPr>
          <a:xfrm>
            <a:off x="233280" y="612720"/>
            <a:ext cx="8677440" cy="61246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2"/>
          <a:stretch/>
        </p:blipFill>
        <p:spPr>
          <a:xfrm>
            <a:off x="1476360" y="5734080"/>
            <a:ext cx="7416720" cy="4474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3"/>
          <a:stretch/>
        </p:blipFill>
        <p:spPr>
          <a:xfrm>
            <a:off x="1476360" y="6237360"/>
            <a:ext cx="7416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图片 1" descr=""/>
          <p:cNvPicPr/>
          <p:nvPr/>
        </p:nvPicPr>
        <p:blipFill>
          <a:blip r:embed="rId1"/>
          <a:stretch/>
        </p:blipFill>
        <p:spPr>
          <a:xfrm>
            <a:off x="731880" y="119160"/>
            <a:ext cx="7908840" cy="66196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2"/>
          <a:stretch/>
        </p:blipFill>
        <p:spPr>
          <a:xfrm>
            <a:off x="1187280" y="1700280"/>
            <a:ext cx="5472360" cy="4474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3"/>
          <a:stretch/>
        </p:blipFill>
        <p:spPr>
          <a:xfrm>
            <a:off x="1187280" y="2205000"/>
            <a:ext cx="5472360" cy="4478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4"/>
          <a:stretch/>
        </p:blipFill>
        <p:spPr>
          <a:xfrm>
            <a:off x="1187280" y="2708280"/>
            <a:ext cx="5472360" cy="447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5"/>
          <a:stretch/>
        </p:blipFill>
        <p:spPr>
          <a:xfrm>
            <a:off x="1187280" y="3213000"/>
            <a:ext cx="547236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6"/>
          <a:stretch/>
        </p:blipFill>
        <p:spPr>
          <a:xfrm>
            <a:off x="1332000" y="4724280"/>
            <a:ext cx="6769080" cy="447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7"/>
          <a:stretch/>
        </p:blipFill>
        <p:spPr>
          <a:xfrm>
            <a:off x="1332000" y="5229360"/>
            <a:ext cx="6769080" cy="4474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8"/>
          <a:stretch/>
        </p:blipFill>
        <p:spPr>
          <a:xfrm>
            <a:off x="1332000" y="5732640"/>
            <a:ext cx="6769080" cy="4474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9"/>
          <a:stretch/>
        </p:blipFill>
        <p:spPr>
          <a:xfrm>
            <a:off x="1332000" y="6237360"/>
            <a:ext cx="6769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171360" y="760320"/>
            <a:ext cx="8801280" cy="58485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2"/>
          <a:stretch/>
        </p:blipFill>
        <p:spPr>
          <a:xfrm>
            <a:off x="826920" y="3529080"/>
            <a:ext cx="5977080" cy="4474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3"/>
          <a:stretch/>
        </p:blipFill>
        <p:spPr>
          <a:xfrm>
            <a:off x="755640" y="4076640"/>
            <a:ext cx="5977080" cy="4478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4"/>
          <a:stretch/>
        </p:blipFill>
        <p:spPr>
          <a:xfrm>
            <a:off x="826920" y="4581360"/>
            <a:ext cx="5977080" cy="4478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5"/>
          <a:stretch/>
        </p:blipFill>
        <p:spPr>
          <a:xfrm>
            <a:off x="755640" y="5129280"/>
            <a:ext cx="5977080" cy="4474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6"/>
          <a:stretch/>
        </p:blipFill>
        <p:spPr>
          <a:xfrm>
            <a:off x="611280" y="5589720"/>
            <a:ext cx="81374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图片 1" descr=""/>
          <p:cNvPicPr/>
          <p:nvPr/>
        </p:nvPicPr>
        <p:blipFill>
          <a:blip r:embed="rId1"/>
          <a:stretch/>
        </p:blipFill>
        <p:spPr>
          <a:xfrm>
            <a:off x="179280" y="1138320"/>
            <a:ext cx="8785440" cy="1822320"/>
          </a:xfrm>
          <a:prstGeom prst="rect">
            <a:avLst/>
          </a:prstGeom>
          <a:ln w="0">
            <a:noFill/>
          </a:ln>
        </p:spPr>
      </p:pic>
      <p:pic>
        <p:nvPicPr>
          <p:cNvPr id="1048" name="图片 2" descr=""/>
          <p:cNvPicPr/>
          <p:nvPr/>
        </p:nvPicPr>
        <p:blipFill>
          <a:blip r:embed="rId2"/>
          <a:stretch/>
        </p:blipFill>
        <p:spPr>
          <a:xfrm>
            <a:off x="1271520" y="3273480"/>
            <a:ext cx="6724800" cy="21621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3"/>
          <a:stretch/>
        </p:blipFill>
        <p:spPr>
          <a:xfrm>
            <a:off x="3276720" y="1628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4"/>
          <a:stretch/>
        </p:blipFill>
        <p:spPr>
          <a:xfrm>
            <a:off x="2987640" y="2060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5"/>
          <a:stretch/>
        </p:blipFill>
        <p:spPr>
          <a:xfrm>
            <a:off x="5651640" y="1557360"/>
            <a:ext cx="720720" cy="4474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6"/>
          <a:stretch/>
        </p:blipFill>
        <p:spPr>
          <a:xfrm>
            <a:off x="5580000" y="2060640"/>
            <a:ext cx="720720" cy="4474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7"/>
          <a:stretch/>
        </p:blipFill>
        <p:spPr>
          <a:xfrm>
            <a:off x="8423280" y="1557360"/>
            <a:ext cx="469800" cy="4474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8"/>
          <a:stretch/>
        </p:blipFill>
        <p:spPr>
          <a:xfrm>
            <a:off x="8459640" y="2060640"/>
            <a:ext cx="470160" cy="4474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9"/>
          <a:stretch/>
        </p:blipFill>
        <p:spPr>
          <a:xfrm>
            <a:off x="3276720" y="386064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10"/>
          <a:stretch/>
        </p:blipFill>
        <p:spPr>
          <a:xfrm>
            <a:off x="2916360" y="450864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11"/>
          <a:stretch/>
        </p:blipFill>
        <p:spPr>
          <a:xfrm>
            <a:off x="6372360" y="386064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12"/>
          <a:stretch/>
        </p:blipFill>
        <p:spPr>
          <a:xfrm>
            <a:off x="6545160" y="4437000"/>
            <a:ext cx="647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57:07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